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EA2-CA7E-4F2D-8F91-F27FE687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409-B360-4BA5-8E38-0CBC7328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C6F-BD72-4B9D-8020-C3363C70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E10-5329-4FE7-9098-B60DE90E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F0A0-2C23-4A15-99D7-C1ED9566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EA47-E3E6-4EC4-8A8B-5520D555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A3AA-FB93-46D4-81F0-53DE30DD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14C6-F040-414B-835A-47079B59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4038-2EF5-40B3-9253-392A6C7B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92C1-82D5-4213-A18A-309BAF82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4259-D252-4D3C-A35B-2B42094F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D96-D10B-4D93-AD2A-90980710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A619-E01F-4732-9D84-3220169B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C2F2-77B3-41BA-86FD-0C834E7A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FF05-E76D-4321-9910-A86255AF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17A2-39A3-4B22-AD54-7463BC95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7835-09A1-490B-9CB4-D93B6FD4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1150-F78C-4C5E-B509-962DBF93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6423-401B-4464-8810-EB95B90C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8626-D66B-45F2-969F-27D1BB29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2E60-32A0-4F1D-A2DC-29F7E8FB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3C95-B562-45D3-908D-77DE6243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475-4DDB-4B60-BDF0-7168122A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EA89-C3C1-4743-A9A6-BEC877BD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BE3A-AB8B-4967-94D5-84E3D9C0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6E6EE-AE8A-4311-BBF2-E5DB5B03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F512F-71C9-4AC1-9901-89C1E28F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B752-16A9-4241-B3F8-351D1646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4ABD-8205-4A2F-B4EE-4F080457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4B225-55F9-43BF-8442-6DA27676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DC1A9-5AD7-4ECA-A115-684B045D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985C6-C7B3-410B-BBB3-63FC6C06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D8A04-AF7E-469D-AE0F-6CEB6F05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A9F-9A2D-442F-AB49-B04127C1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611F1-0CD2-4773-9BCE-EB7F3851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A2A3-0187-4843-8BE9-C2E9383A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09CE3-C497-4D85-BC0E-80100912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CF88B-B5E4-46B1-949F-7E799A79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BB163-EAFA-4DE7-9227-54CEE42C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3A3F0-75E0-46F7-BB9D-21BB0AFF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926E7-F009-4ADA-8B39-BFB5AA8C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49331-D280-4F30-9ECD-5953F6FC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1005B-EDA0-4D20-A4C2-945B760E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898-6BFF-4A28-8D9F-99B06825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F0E-92CD-4017-8859-128481AD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A91-F493-489A-9765-8BF294E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EF2-F395-445B-A603-1B7CF160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056-F886-49AE-9669-61BF99AE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3C65-08D0-4FC9-B192-A61F071DD93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8915-5FF1-48C9-A832-2910EEA6F31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5EF4-F27B-4057-9BE7-A7AB8D11875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FDDA-9611-4B1B-B8D2-42C1CA5EBC8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49320" y="-60480"/>
            <a:ext cx="9107640" cy="3321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040" y="3352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Safiuddin Mohame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B08013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Faculty of Manufacturing     Engineering And Technology Managemen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97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nstantia"/>
              </a:rPr>
              <a:t>Problem Statement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paper aims to explore the condition under which HRM practices are more effective towards improving project suc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7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nstantia"/>
              </a:rPr>
              <a:t>Research objective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explore the contribution of different team   development practices to project succes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identify those team development practices that have the  greatest influence on project succes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investigate potential moderating variables that may influence the relationship between team development and project succes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earch ques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) What is the impact of team development effort on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) What is the interaction between project duration and team development to influence on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) Would lack of authority influence the relationship between team development and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) Would lack of proper training influence the relationship between team development and project success?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cope of stud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 99 project teams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99 different organizations around Malaysi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ignificant of Stud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 improving the knowledge on team development  effectiveness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p021_1_00.png"/>
          <p:cNvPicPr/>
          <p:nvPr/>
        </p:nvPicPr>
        <p:blipFill>
          <a:blip r:embed="rId1"/>
          <a:stretch/>
        </p:blipFill>
        <p:spPr>
          <a:xfrm>
            <a:off x="5157720" y="3121200"/>
            <a:ext cx="3602160" cy="6814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terature Re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e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ject te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ject develop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effectiveness of project team develop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hod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mple and pop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99 project team from 99 different organiz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collection meth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Use questionn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project 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supervis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use SP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iStock_000005295390XSmall.jpg"/>
          <p:cNvPicPr/>
          <p:nvPr/>
        </p:nvPicPr>
        <p:blipFill>
          <a:blip r:embed="rId1"/>
          <a:stretch/>
        </p:blipFill>
        <p:spPr>
          <a:xfrm>
            <a:off x="4800600" y="350532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eam%20Development%20Left.jpg"/>
          <p:cNvPicPr/>
          <p:nvPr/>
        </p:nvPicPr>
        <p:blipFill>
          <a:blip r:embed="rId1"/>
          <a:stretch/>
        </p:blipFill>
        <p:spPr>
          <a:xfrm>
            <a:off x="1143000" y="1752480"/>
            <a:ext cx="7162920" cy="46389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2:08:33Z</dcterms:created>
  <dc:creator>user</dc:creator>
  <dc:description/>
  <dc:language>en-US</dc:language>
  <cp:lastModifiedBy>user</cp:lastModifiedBy>
  <dcterms:modified xsi:type="dcterms:W3CDTF">2010-04-07T01:20:48Z</dcterms:modified>
  <cp:revision>114</cp:revision>
  <dc:subject/>
  <dc:title>Slide 1</dc:title>
</cp:coreProperties>
</file>