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2C1-6ED8-4893-A7FA-88661EA9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102-9B60-4B32-922B-345BEDC5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1CC-0020-4C69-9C46-1E751F9C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250-369E-4751-8D4B-5F3C6884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4D4B-4BE5-4B50-BFED-A850E1E1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8298-C681-4107-87B4-60902CFC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3F68-2BCE-4935-BEE8-9E0072BF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742D-3D19-43E5-86DA-950C30AD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D87A-7134-471F-90F6-91AFDF7D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0373-B808-4CFF-8FD5-0D8D39C3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C23E-CB17-4176-AA24-2093329D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DFB-16D3-4F24-B5E4-4298C7ED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F974-F049-4586-9BF3-41528FDD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C8E3-1039-47EE-8AA1-B460913D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5196-D9FA-4519-B32A-364438A4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F06B-8012-41BD-BDAA-0E77784F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EB42-6AA5-4A1A-81B4-97DFD0FC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75B8-4A5A-41CD-AFA3-8D75EF77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07511-2BF1-4A07-8DC3-870ECBC4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E075-098D-425D-95A4-4F3187E5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50910-E989-4147-8088-F4331E62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C5B7-36BA-48D4-830B-829B1382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7F2-243D-440E-91CC-05F2130D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32908-B4ED-4C60-B868-578ED9DE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75ED-312E-472E-850B-3D01E29B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8226-3B83-4BDC-897D-5415D1DE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3C4A-73AC-4D43-A640-CD907BF8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2B165-9525-42CA-93D3-33CF5A87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CB06C-3A39-44CB-9153-91F20A44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1B8D-451F-485F-A540-E93D7744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5A7A2-2E02-4076-BFE6-F9590FF0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3D50A-5AE9-4B0A-B3AF-D1894A84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D1D4-86BF-4A6D-AC06-FB857394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1D4-AB13-43A4-A0A2-81F6AFC2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BE88-CA52-44BE-AD0C-9DBB6115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F593B-30F7-4824-A2AE-984E662C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C00C-28C5-4D45-B4AA-9ED3A03C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9F807-9EE5-4722-B277-EB5E36E7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FC4C4-2243-4450-8FC6-B1D8DF48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B491-1847-4A78-8E27-CA002D24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FCE7-D94C-4104-A8B3-D4E4F0A3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32F35-28C2-427B-A505-C0109E9C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F917-F935-47B3-B510-8E30C62C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F2E-F4D4-458C-BC9E-682D169C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467-5BD8-4246-97E6-3DFCE928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7D1-6597-4B21-92DB-8C7CE9E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958-73DE-467F-A97A-E3F60D2B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655-A084-4291-889E-E1D29C9E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6DC1-A14A-4573-9FE9-541B8C47536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E30B-966B-4C2E-90EC-A6459EB8CA1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D46E-B1EA-4490-8975-9507CBFFCC9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0918-6F30-4D87-B722-0A39415EA25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-49320" y="-60480"/>
            <a:ext cx="9107640" cy="3321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040" y="33523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Safiuddin Mohame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PB08013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Faculty of Manufacturing     Engineering And Technology Managemen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97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nstantia"/>
              </a:rPr>
              <a:t>Problem Statement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paper aims to explore the condition under which HRM practices are more effective towards improving project suc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7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nstantia"/>
              </a:rPr>
              <a:t>Research objective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explore the contribution of different team   development practices to project succes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identify those team development practices that have the  greatest influence on project succes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investigate potential moderating variables that may influence the relationship between team development and project succes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earch ques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) What is the impact of team development effort on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) What is the interaction between project duration and team development to influence on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) Would lack of authority influence the relationship between team development and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) Would lack of proper training influence the relationship between team development and project success?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cope of stud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 99 project teams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99 different organizations around Malaysi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ignificant of Stud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 improving the knowledge on team development  effectiveness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p021_1_00.png"/>
          <p:cNvPicPr/>
          <p:nvPr/>
        </p:nvPicPr>
        <p:blipFill>
          <a:blip r:embed="rId1"/>
          <a:stretch/>
        </p:blipFill>
        <p:spPr>
          <a:xfrm>
            <a:off x="5157720" y="3121200"/>
            <a:ext cx="3602160" cy="68148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terature Re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e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oject te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oject develop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effectiveness of project team develop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hod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mple and pop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99 project team from 99 different organiz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collection meth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Use questionn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project 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supervis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use SP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iStock_000005295390XSmall.jpg"/>
          <p:cNvPicPr/>
          <p:nvPr/>
        </p:nvPicPr>
        <p:blipFill>
          <a:blip r:embed="rId1"/>
          <a:stretch/>
        </p:blipFill>
        <p:spPr>
          <a:xfrm>
            <a:off x="4800600" y="350532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eam%20Development%20Left.jpg"/>
          <p:cNvPicPr/>
          <p:nvPr/>
        </p:nvPicPr>
        <p:blipFill>
          <a:blip r:embed="rId1"/>
          <a:stretch/>
        </p:blipFill>
        <p:spPr>
          <a:xfrm>
            <a:off x="1143000" y="1752480"/>
            <a:ext cx="7162920" cy="46389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2:08:33Z</dcterms:created>
  <dc:creator>user</dc:creator>
  <dc:description/>
  <dc:language>en-US</dc:language>
  <cp:lastModifiedBy>user</cp:lastModifiedBy>
  <dcterms:modified xsi:type="dcterms:W3CDTF">2010-04-07T01:20:48Z</dcterms:modified>
  <cp:revision>114</cp:revision>
  <dc:subject/>
  <dc:title>Slide 1</dc:title>
</cp:coreProperties>
</file>