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00F-3441-4785-A60B-DEE02E6A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3271-4179-46D5-9330-E65C16F1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D936-2642-4A9B-B74A-24AA7A4C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1545-82B0-4899-9023-F7C6CA6F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DAD0-51C2-4CC6-A7EA-5BD9AB20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6123-1B69-4FF0-BE08-90E2D175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ABE2-48A9-4B11-BFD9-FB85BECD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A103-18A2-49BC-A2BB-4BC94BA5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1341-EFCB-4AA7-B606-C3CE27F4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AF4F-CC1C-4072-9D7C-00E6566B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B3B9-2693-40B2-88B2-969FF0B9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296-6DAF-43DD-8734-00D1944A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23E9-7C76-4052-BC5F-01ECA61F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C9AF-34F3-4FA9-B992-79519936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980C-E76D-4A68-BF8B-D4489A8F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B673-331D-4ABD-A6E3-635BE031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0FD4-6043-49C8-8FC4-FDCA0A0D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B6266-8FB3-405A-88EA-A8A8E635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658BC-8C12-458E-802E-FD0CAC09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08638-B977-4F77-80E0-DAE87971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75433-4830-4F46-97BE-0D6365A5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86C36-C058-499E-AB9B-50ABE3B4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2D5-B50A-43A0-B203-27F8E3DE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94B2B-22BD-4D53-BED2-AB30EDDD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C40D2-7541-439D-BBF4-FDF2CD61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F0771-1607-424B-94B1-74152653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E1620-6B84-41B9-9CB9-99FAD6C7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64254-8F98-4BDE-99F6-6B33FFF6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2F680-634A-4A88-AF2B-B4735D83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7075B-6337-44EA-920B-69967C11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71F65-0C11-4BDA-A842-CD67E231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44E92-9A5C-4718-9333-56DD798D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39458-3C38-41C2-99C4-0B3A10E4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658-72C3-484E-9F79-038A9495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E7A33-1BB2-496C-8C5C-72366CD0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EFD71-D5BA-4FBD-8006-8489709E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A1AE1-9C32-41B6-A0D2-7A178553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50063-3DA7-4949-8622-1A8962FB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72D0A-72B4-45DA-ACDA-90082BDC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FB0CB-75C1-4CE4-941F-C236C37D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09121-15FC-441A-9D21-39280118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573F5-5025-4345-98A6-A9ADFF7D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80F4B-29E1-4CA5-9BA9-75BE71C8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8FEC-B79F-4767-BC5D-A0AAE6C0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5FA-855F-49E1-8E9C-7B627380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F4D-14AD-4E24-9551-1CE54F79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34A3-A78A-47A4-BFE5-F056AFF7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52DC-BA93-4EEA-8405-86D4C404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5BE0-3628-404D-AE3B-E6923D4E039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20D6-0219-41FA-B7CB-402F79ADC92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562A-CF80-46A9-9498-69CBF0ABB3C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3D44-296E-4B9C-8461-C073D77CBDF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-49320" y="-60480"/>
            <a:ext cx="9107640" cy="3321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040" y="33523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Safiuddin Mohamed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PB08013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Faculty of Manufacturing     Engineering And Technology Managemen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975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nstantia"/>
              </a:rPr>
              <a:t>Problem Statement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paper aims to explore the condition under which HRM practices are more effective towards improving project succ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75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nstantia"/>
              </a:rPr>
              <a:t>Research objective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explore the contribution of different team   development practices to project succes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identify those team development practices that have the  greatest influence on project succes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investigate potential moderating variables that may influence the relationship between team development and project succes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search ques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) What is the impact of team development effort on project succes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) What is the interaction between project duration and team development to influence on project succes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) Would lack of authority influence the relationship between team development and project succes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) Would lack of proper training influence the relationship between team development and project success?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cope of study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- 99 project teams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-99 different organizations around Malaysia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ignificant of Study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- improving the knowledge on team development  effectiveness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p021_1_00.png"/>
          <p:cNvPicPr/>
          <p:nvPr/>
        </p:nvPicPr>
        <p:blipFill>
          <a:blip r:embed="rId1"/>
          <a:stretch/>
        </p:blipFill>
        <p:spPr>
          <a:xfrm>
            <a:off x="5157720" y="3121200"/>
            <a:ext cx="3602160" cy="68148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terature Revie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ea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roject tea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roject developm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he effectiveness of project team developm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hod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ample and pop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99 project team from 99 different organiz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collection meth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Use questionna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project manag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supervis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use SP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iStock_000005295390XSmall.jpg"/>
          <p:cNvPicPr/>
          <p:nvPr/>
        </p:nvPicPr>
        <p:blipFill>
          <a:blip r:embed="rId1"/>
          <a:stretch/>
        </p:blipFill>
        <p:spPr>
          <a:xfrm>
            <a:off x="4800600" y="3505320"/>
            <a:ext cx="3809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Team%20Development%20Left.jpg"/>
          <p:cNvPicPr/>
          <p:nvPr/>
        </p:nvPicPr>
        <p:blipFill>
          <a:blip r:embed="rId1"/>
          <a:stretch/>
        </p:blipFill>
        <p:spPr>
          <a:xfrm>
            <a:off x="1143000" y="1752480"/>
            <a:ext cx="7162920" cy="46389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4617b"/>
                </a:solidFill>
                <a:latin typeface="Calibri"/>
              </a:rPr>
              <a:t>Conclusion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2:08:33Z</dcterms:created>
  <dc:creator>user</dc:creator>
  <dc:description/>
  <dc:language>en-US</dc:language>
  <cp:lastModifiedBy>user</cp:lastModifiedBy>
  <dcterms:modified xsi:type="dcterms:W3CDTF">2010-04-07T01:20:48Z</dcterms:modified>
  <cp:revision>114</cp:revision>
  <dc:subject/>
  <dc:title>Slide 1</dc:title>
</cp:coreProperties>
</file>