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1412-B35D-452D-AF2F-BEAE167C6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74A4-D5ED-497B-823C-9A390FE8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4EFC-8398-421B-B3B9-2D0D6764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7B70-8588-48BC-9007-807FDC39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5553-5C55-4455-B170-93EB1E8A5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4B19-3222-47A5-AF67-D522865B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5F44-E3E2-4CC3-9CED-D90F314D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1017-E927-41B4-8C28-3F06D6D9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0CF0-773D-4295-99A0-3C7E2896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D6C2-704F-47BC-853A-82E76031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7F14-4A5A-40F9-81B4-D26B39CE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70E0-DE60-4DFE-A07B-BF641E12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A086-5211-460E-9765-4726BAE2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A615-99D0-4263-9AFB-DBD96272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1FC9-7473-49E5-8575-61B6EAD8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07FA-CA53-47EE-A0AC-427EE85C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F464-D39D-4551-A959-5EF99AB4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E8829-637B-4336-8EF1-1AA34604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D2207-FD0B-4EC2-A5D5-0963B58F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148AF-554D-4478-80B9-083256F2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629E4-5760-48D1-BDA8-990544AF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CC6EF-D0F1-43AB-B900-28D27801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8E3A-3E6B-45CC-8125-1E48E43F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2D2B7-61FA-4BD8-8F5A-5FC6F36F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C04CD-4873-4AF1-BF50-996E5F1B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D44C8-77F6-4D6C-8186-67F71519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4C409-83E6-4A7B-A063-318EEF9F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540B1-6D0B-46F4-BB45-BC91EAAC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B1BB7-48A4-428B-B985-C13ACB33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CE191-BAFA-4124-B531-FC794F3B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1540A-C713-4998-B12B-7230B16E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EF79C-EB01-48DE-A28E-4C437D48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4F0CF-9742-4289-8E5F-8E48F439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D7D2-DC2E-4E19-8F81-4A734B04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3F32A-CFE9-491F-9039-3C1F0567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DB2E6-9175-449B-8B0A-03A22C12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EF127-A763-4D80-9269-684F9A1A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2F0E7-A468-421C-9447-80B97AC7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7353C-59F9-446E-8B40-722F70C7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C7387-FB30-45EA-A0CF-A041334D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BAEB9-6244-4862-922C-C9A2C17D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48EA8-2D4C-43B4-9B70-1C108C2C9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8F2D2-77B5-45D1-B957-E72A27DFA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4872-B533-4F1B-B21B-4B1BA495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4518-B213-4E33-998A-5764BE77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E93A-BD50-4012-96D0-EA77006F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BAD6-88EB-4EE1-A176-E5CD9197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65CA-381E-4A83-AFC0-AE17CD08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3FA7-AEC7-464E-AE7D-E6358B60E82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0B78-626D-4556-A4D2-CFC1818945D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AD2C-D38B-4F0B-8FCB-31F30247F41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4FEE-5034-4F64-BDE8-11B686EFEAD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-49320" y="-60480"/>
            <a:ext cx="9107640" cy="3321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14040" y="335232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Safiuddin Mohamed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PB08013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Faculty of Manufacturing     Engineering And Technology Management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spcBef>
                <a:spcPts val="975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Constantia"/>
              </a:rPr>
              <a:t>Problem Statement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s paper aims to explore the condition under which HRM practices are more effective towards improving project succes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975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Constantia"/>
              </a:rPr>
              <a:t>Research objective 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o explore the contribution of different team   development practices to project succes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o identify those team development practices that have the  greatest influence on project succes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o investigate potential moderating variables that may influence the relationship between team development and project succes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esearch ques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) What is the impact of team development effort on project success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) What is the interaction between project duration and team development to influence on project success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3) Would lack of authority influence the relationship between team development and project success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4) Would lack of proper training influence the relationship between team development and project success?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Scope of study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- 99 project teams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-99 different organizations around Malaysia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Significant of Study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- improving the knowledge on team development  effectiveness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" descr="p021_1_00.png"/>
          <p:cNvPicPr/>
          <p:nvPr/>
        </p:nvPicPr>
        <p:blipFill>
          <a:blip r:embed="rId1"/>
          <a:stretch/>
        </p:blipFill>
        <p:spPr>
          <a:xfrm>
            <a:off x="5157720" y="3121200"/>
            <a:ext cx="3602160" cy="68148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terature Revie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ea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Project tea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Project developmen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he effectiveness of project team developmen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ethodolo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ample and popul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99 project team from 99 different organiza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ta collection metho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Use questionnai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project manag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supervis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ta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use SP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3" descr="iStock_000005295390XSmall.jpg"/>
          <p:cNvPicPr/>
          <p:nvPr/>
        </p:nvPicPr>
        <p:blipFill>
          <a:blip r:embed="rId1"/>
          <a:stretch/>
        </p:blipFill>
        <p:spPr>
          <a:xfrm>
            <a:off x="4800600" y="3505320"/>
            <a:ext cx="3809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Team%20Development%20Left.jpg"/>
          <p:cNvPicPr/>
          <p:nvPr/>
        </p:nvPicPr>
        <p:blipFill>
          <a:blip r:embed="rId1"/>
          <a:stretch/>
        </p:blipFill>
        <p:spPr>
          <a:xfrm>
            <a:off x="1143000" y="1752480"/>
            <a:ext cx="7162920" cy="46389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4617b"/>
                </a:solidFill>
                <a:latin typeface="Calibri"/>
              </a:rPr>
              <a:t>Conclusion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2:08:33Z</dcterms:created>
  <dc:creator>user</dc:creator>
  <dc:description/>
  <dc:language>en-US</dc:language>
  <cp:lastModifiedBy>user</cp:lastModifiedBy>
  <dcterms:modified xsi:type="dcterms:W3CDTF">2010-04-07T01:20:48Z</dcterms:modified>
  <cp:revision>114</cp:revision>
  <dc:subject/>
  <dc:title>Slide 1</dc:title>
</cp:coreProperties>
</file>