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716-5243-4657-9C8F-C0D16DD5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CEE-5734-4E99-A488-0075D0D7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FC6-75B6-494F-BBA5-2E6A0715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519-2DC2-4BCA-8C6C-68D6BF1D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ADAB-4B45-4F90-9CB6-F98904DF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7B1F-2D1E-4FC9-8328-4F56467F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3087-F66E-4208-B383-0E2C9D2C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47DA-71E1-419E-85A7-52D35FAC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DE84-2735-44A9-AF3B-7F62A743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E306-98AC-4F3B-BB6D-58353ACD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133F-BEF0-4B47-B693-E129687F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25E-802B-48DF-A854-7B472560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D0AB-AFDA-4DF7-83EC-3278C0BF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85CF-E681-4BD5-A437-0D2F0822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668D-D8E9-44C1-BD58-5E8A257B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A5C6-A935-4A1F-BFC5-9AB0796B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3728-AAFD-4B5A-8859-D2272256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6D754-7402-44E0-9618-D0EA60DF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D6A76-2CF7-4340-9CA6-5E845601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FC53C-87D7-4C9B-80AD-E76827F3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E7F53-ECB0-4B98-98FF-FB1E76DD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EFB2B-E581-4CBC-A12F-41DFC149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D2B-0EA0-4C2D-971A-BDC9A97E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F8243-D774-4DF7-A0B5-2807017B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DBC49-3ADB-48ED-9A56-C9DC269D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3A412-F141-4F5D-9BA3-11847A98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B571E-6483-400F-9E93-3CDB1E86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4310B-CC93-4BFF-BA81-2D016832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A4108-D624-41D3-AF2A-C3402338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0D63-D1F8-4460-95D8-328CAF83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8A978-8A8D-4145-96A4-39B26301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8ADB7-E8C4-45C8-9960-37CC0340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5A653-BD98-4DAE-852F-A86B5711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09F-B98D-45A4-AE23-C8ADECBC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13FAD-4FE8-4445-A24E-832F3C95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4309C-B129-48B9-9C21-2DEDACD0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CA65B-E745-4AE1-86FA-A433AF09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B60B2-8E48-45AB-BBF6-2559B832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E8C7D-49C5-4E4F-8776-18AE9206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9C70C-3666-4163-8096-2001A388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FC402-0CDB-4F16-8FF5-94A8DE85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CBE48-1AB9-440F-BE26-C8447CAB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B8C8E-DDDA-4B2C-91C2-8BE79B09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8EF-020F-422D-8EF4-78DF4FD6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434-9F54-4053-B68A-928799A2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BA2-595D-46F7-A40C-8E895C2E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961-EFB3-4D95-B521-E213BBCA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99B-6B8F-4259-8E34-C1A931F5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7966-8D2D-4F0F-96A7-26AB731866F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02E4-9044-4714-BD49-E20E0B4C377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8F9A-437B-41C0-81CC-0D40CF92BCF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7350-0B8F-4F6D-BF9C-5D0075C32FD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-49320" y="-60480"/>
            <a:ext cx="9107640" cy="3321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040" y="33523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Safiuddin Mohamed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PB08013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Faculty of Manufacturing     Engineering And Technology Managemen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975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nstantia"/>
              </a:rPr>
              <a:t>Problem Statement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paper aims to explore the condition under which HRM practices are more effective towards improving project succ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75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nstantia"/>
              </a:rPr>
              <a:t>Research objective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explore the contribution of different team   development practices to project succes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identify those team development practices that have the  greatest influence on project succes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investigate potential moderating variables that may influence the relationship between team development and project succes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search ques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) What is the impact of team development effort on project succes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) What is the interaction between project duration and team development to influence on project succes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) Would lack of authority influence the relationship between team development and project succes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) Would lack of proper training influence the relationship between team development and project success?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cope of study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- 99 project teams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-99 different organizations around Malaysia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ignificant of Study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- improving the knowledge on team development  effectiveness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p021_1_00.png"/>
          <p:cNvPicPr/>
          <p:nvPr/>
        </p:nvPicPr>
        <p:blipFill>
          <a:blip r:embed="rId1"/>
          <a:stretch/>
        </p:blipFill>
        <p:spPr>
          <a:xfrm>
            <a:off x="5157720" y="3121200"/>
            <a:ext cx="3602160" cy="68148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terature Revie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ea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roject tea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roject developm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he effectiveness of project team developm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hodolog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ample and pop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99 project team from 99 different organiz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collection meth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Use questionna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project manag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supervis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a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use SP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iStock_000005295390XSmall.jpg"/>
          <p:cNvPicPr/>
          <p:nvPr/>
        </p:nvPicPr>
        <p:blipFill>
          <a:blip r:embed="rId1"/>
          <a:stretch/>
        </p:blipFill>
        <p:spPr>
          <a:xfrm>
            <a:off x="4800600" y="3505320"/>
            <a:ext cx="3809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Team%20Development%20Left.jpg"/>
          <p:cNvPicPr/>
          <p:nvPr/>
        </p:nvPicPr>
        <p:blipFill>
          <a:blip r:embed="rId1"/>
          <a:stretch/>
        </p:blipFill>
        <p:spPr>
          <a:xfrm>
            <a:off x="1143000" y="1752480"/>
            <a:ext cx="7162920" cy="46389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4617b"/>
                </a:solidFill>
                <a:latin typeface="Calibri"/>
              </a:rPr>
              <a:t>Conclusion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2:08:33Z</dcterms:created>
  <dc:creator>user</dc:creator>
  <dc:description/>
  <dc:language>en-US</dc:language>
  <cp:lastModifiedBy>user</cp:lastModifiedBy>
  <dcterms:modified xsi:type="dcterms:W3CDTF">2010-04-07T01:20:48Z</dcterms:modified>
  <cp:revision>114</cp:revision>
  <dc:subject/>
  <dc:title>Slide 1</dc:title>
</cp:coreProperties>
</file>