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AA4-F04A-46A0-8D65-000EE373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079-25B2-4B94-B4EE-99CCBC0D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C65-0711-47EE-B5BA-8C598615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B2A-2459-4972-B285-1D747CCE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A641-39C3-4145-9B6D-D24ED321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9FDA-1344-411D-BFBA-C88051DA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1C4A-66EF-4F31-94B6-2B459C8E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1239-BF9C-4408-9FED-95C2D16F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36AA-1136-4A76-B6EE-0F2BCFA2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E610-B5EC-4C97-9882-FDCC5136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779E-CCCF-4829-8454-35D93B18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33B-9039-47D4-9A15-417AFF91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7369-CE7D-4BD1-936E-081AB529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DF5B-215A-4B9A-BC81-4661A76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67F0-2601-4848-A5FB-70447453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237-46D2-4521-95BA-FA70B4D3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F841-70B9-4AEE-B79D-F9A76E1F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2E5E-C012-4A53-93FD-FCC17820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C75F-B9AE-46D7-BD46-57537707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8BD00-C790-4373-8179-7B1AA457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572F-8F84-40F3-AFBD-FDEF91E8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31D4-538E-42AF-849D-EC7768F6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DDF-1878-46B8-A77A-95BBB059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089F-F097-4A66-8D43-73C23090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4084-CFFB-4D24-A6BC-AC08D48D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2200-67AD-471D-AF6B-8E5936B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32F39-4CA0-494A-BD6E-1400ACB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E80A-A601-47B4-99D4-7C880805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966F-66C0-4383-A5A0-B8EA657E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C5CC-C4E4-4F5A-B160-565C89B6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D104E-B428-4D52-B45C-4830FCF6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8D52-2E39-4106-A32F-2F8FF7DF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7B6F8-BE17-4421-A4F8-3EC5638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78E-9304-4CA5-B69D-C6B819C6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47A9-49E0-4BB9-B93E-8A78CF73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F60BD-317B-4C00-AD88-C6EEDD8C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24C7-BAF9-4498-98ED-FB5FBA69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C2A2-C885-42C3-9112-53E6A837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512C-8191-491E-9939-21F02D4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97D6-7BA6-4724-80A4-AE29A4D9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9AE9-D3FF-434D-80CE-F66E07B2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B90A-3494-40DE-9D04-43643A82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056A-8DBB-4D5C-A415-5E78C2C9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346-240A-40B1-8D58-A41CB191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442-927E-450D-8115-1C4BAA23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55C-3570-43B0-816B-2AF78D8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2FC-3C29-4C86-ACB8-B82D67F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E0C-A688-4EC4-9E7E-41E3EB75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3F27-DE1D-4DEE-B9A1-335D703631F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B71A-DFBE-4389-A14C-EEDFA17D8F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A01A-1EA0-4F0C-9E11-BD4111DFFFA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1B4D-2D46-4847-A180-1AA56F0E73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49320" y="-60480"/>
            <a:ext cx="9107640" cy="3321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3352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Safiuddin Mohame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B08013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aculty of Manufacturing     Engineering And Technology Manag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Problem Statement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paper aims to explore the condition under which HRM practices are more effective towards improving project suc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Research objective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explore the contribution of different team   development practices to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dentify those team development practices that have the  greatest influence on project succes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nvestigate potential moderating variables that may influence the relationship between team development and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earch ques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What is the impact of team development effort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What is the interaction between project duration and team development to influence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) Would lack of authority influence the relationship between team development and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) Would lack of proper training influence the relationship between team development and project success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cope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99 project team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99 different organizations around Malaysi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ignificant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improving the knowledge on team development  effectivenes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p021_1_00.png"/>
          <p:cNvPicPr/>
          <p:nvPr/>
        </p:nvPicPr>
        <p:blipFill>
          <a:blip r:embed="rId1"/>
          <a:stretch/>
        </p:blipFill>
        <p:spPr>
          <a:xfrm>
            <a:off x="5157720" y="3121200"/>
            <a:ext cx="3602160" cy="681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terature Re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effectiveness of project team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hod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mple and pop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99 project team from 99 different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collection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project 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SP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iStock_000005295390XSmall.jpg"/>
          <p:cNvPicPr/>
          <p:nvPr/>
        </p:nvPicPr>
        <p:blipFill>
          <a:blip r:embed="rId1"/>
          <a:stretch/>
        </p:blipFill>
        <p:spPr>
          <a:xfrm>
            <a:off x="4800600" y="35053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eam%20Development%20Left.jpg"/>
          <p:cNvPicPr/>
          <p:nvPr/>
        </p:nvPicPr>
        <p:blipFill>
          <a:blip r:embed="rId1"/>
          <a:stretch/>
        </p:blipFill>
        <p:spPr>
          <a:xfrm>
            <a:off x="1143000" y="1752480"/>
            <a:ext cx="7162920" cy="4638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2:08:33Z</dcterms:created>
  <dc:creator>user</dc:creator>
  <dc:description/>
  <dc:language>en-US</dc:language>
  <cp:lastModifiedBy>user</cp:lastModifiedBy>
  <dcterms:modified xsi:type="dcterms:W3CDTF">2010-04-07T01:20:48Z</dcterms:modified>
  <cp:revision>114</cp:revision>
  <dc:subject/>
  <dc:title>Slide 1</dc:title>
</cp:coreProperties>
</file>